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9DB-192E-4141-BF65-43368641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964-E5B3-47E7-9298-B6F1644F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0DF-692C-4A5D-8A6F-4EBA1415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FE9-6BC9-4591-833E-2E342966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7A2-6513-49CA-9550-6FF16240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D2B-1DB9-418F-83E6-AB9AF03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697-3776-4E14-8197-8B691039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9FC-1939-481A-BDF1-8330FCDF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828-78B7-4D96-A75D-5B410720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F8C-A3D9-4C89-8EF4-1C52C361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EB8-B91F-44DE-838B-C6B65E2A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39D-A867-4BB0-B699-AFD3ACB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018-A98C-44A6-B6B7-DF2B13FCE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371600"/>
            <a:ext cx="65530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ccess happens when you have the correc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istake = Focus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ntal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ow do I think about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Posture, Alertness, 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Robbins – Unlimi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510552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Rockwell"/>
              </a:rPr>
              <a:t>Add your 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’m not an 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6095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3200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Rockwell"/>
              </a:rPr>
              <a:t>+ attit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Rockwell"/>
              </a:rPr>
              <a:t>+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utter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752480"/>
            <a:ext cx="647676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you ever gone bow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ere doing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ould be happy with an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long as it wasn’t a gutter 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utter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371600"/>
            <a:ext cx="647676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arn about your brai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 of your brain thinks in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is visualization is extremely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re are no “neg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cture a gutter ball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 thinking ‘NOT THI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frequently result in a gutter bal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… positive pictures only PLEA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1981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 Spectators Allow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52480"/>
            <a:ext cx="685800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 there were 3 groups of 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the seniors got to go home with the researchers and play with the kids and the t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the juniors got to go home … but stayed in cages and watched all the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the sophomores stayed in the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mice were the smart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19810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 Spectators Allow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371600"/>
            <a:ext cx="723924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Learn 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o Re-Invent i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Very interesting experiment from the early 195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ying mice the smartest BY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►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watching mice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 similar mental stimul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re slightly better off than lab m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mora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Learning (connections between neurons) happens when you are actively ‘engage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60958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an Diamond – Learning Trees of the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6095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1981080"/>
            <a:ext cx="1447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 help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371600"/>
            <a:ext cx="69343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ew comment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 classes typicall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3-4 hours per week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2-3 hours of homework (really home stu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hour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ou owe me 5-6 hou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we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for it now, and see the effects of consistent 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calc-08.wikispace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learning community – join now (to post/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“me” so help me learn what you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 lot of links on the Internet.  See the wiki for a set of links to try first.  And if you find a good one, shar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-2009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19810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371600"/>
            <a:ext cx="7239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ew comment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te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ongly recommen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tudents last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other teachers of AP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king about YOUR understanding i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y to understand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ws.harvard.edu/gazette/2006/02.23/05-a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ard University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courses are NOT a good predictor of college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single predictor: mathematical flu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least for sciences 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rcises vs. probl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ractice vs. 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810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371600"/>
            <a:ext cx="7239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uses for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me how you are d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eft: section in book; pages and proble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:      how many points the homework is in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right: name; date;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each problem, and write ou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t necessarily verba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 that it is easy to review and study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n’t be entering a grade for each one, th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UST SE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d” answers will cause your homework to be rejec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10:43:39Z</dcterms:created>
  <dc:creator>Bob Wilder</dc:creator>
  <dc:description/>
  <dc:language>en-US</dc:language>
  <cp:lastModifiedBy>Bob Wilder</cp:lastModifiedBy>
  <dcterms:modified xsi:type="dcterms:W3CDTF">2009-07-26T16:54:02Z</dcterms:modified>
  <cp:revision>20</cp:revision>
  <dc:subject/>
  <dc:title>Slide 1</dc:title>
</cp:coreProperties>
</file>